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BAB-BAEF-4068-AD16-8ABD7EE6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454-EA3E-4628-ADE2-8F54014F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D54-43C1-40EE-9802-EC843E2E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900-DB6F-4312-A7FB-CBD04A36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CA4-8C0F-478A-B0AA-AE2D119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2A4-59CE-411F-8BE0-0AA127F3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32A-EA30-4FAF-8FE5-CD456BE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970-544A-4698-8DBF-02F24A5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C6D-D0A2-4EFF-A62D-EE80B644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A87-4AE2-433B-80CA-916B168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819-F9FD-427D-91D0-8F5F12F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FFD-3CC1-4A82-AAF2-91D18C8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3C5-40C3-4E65-942D-6C6491549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равнительн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ы</a:t>
            </a:r>
            <a:r>
              <a:rPr b="1" lang="en-AU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й анализ политики в области семьи и рождаемости в развитых странах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141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Питер М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Донал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встралийский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ционал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ный Уни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еждународный семинар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рождаемость 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зовы и стратегические подход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осква, Российская Федерация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-15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ентябр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34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ыплата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ниверсального пособия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в связи с рождением каждого ребен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0640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Непосредственное влияние на всех женщин, рассматривающих возможность завести еще одного ребенка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ямое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признание социальной ценности детей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Справедливый подход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Нейтральность в плане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бстоятельств, связанных с трудоустройством и гендерным вопросом.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Благоприятно сказывается на развитии ребенка, если деньги используются на его благо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сключительная п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ростота и прозрачность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Политическая приемлимость - был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внедрен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без особых сложностей во всех странах, которые недавно приняли настоящий подход (таких, как Австралия,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Австрия, Эстония)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уществуют импирические доказательства того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, что это работает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плачиваемый отпуск по беременности и родам как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льтернатив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выплаты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универсального пособия на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Да, но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плачиваемый  отпуск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 беременности и родам может не быть универса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Декретный отпуск может быть оплачен только женщинам, которые проработали на одного и того же работодателя в течение определенного периода времени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н не может быть оплачен неработающим женщинам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ожет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редоставляться на условии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возвращени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я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на работу в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о время, которое не устраивает данного родителя, или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Размер оплаты может зависеть от предварительных накоплений по социальному страхованию.</a:t>
            </a:r>
            <a:r>
              <a:rPr b="0" lang="en-A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особия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на дете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или предоставление налоговых льгот в слу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ае наличия в семье детей любого возраста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7016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довлетворяет большинство принципов: равенство, нейтральность в отношени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проса трудоустройства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ндерного равенства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если эти средства расходуются на ребенка, выг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для е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простота и прозрачность, а также политическая приемлимость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Единственным существенным недостатком является то, что большинство семей, решающих, заводить или не заводить ребенка, озабочены преи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ущественно своей финансовой ситуацией на данный момент и не принимают во внимание выгоды и льготы, которые они могут получить в будущем. 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Единовременная помощь   (предоставление налоговых льгот) при рождени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ретьего и большего количества (3+)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5404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езначительный охват, так как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б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ольшинство семей имеют одного или двух детей.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Скорее всего не повлияет на время рождения детей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(т.е. Детей не будут рожать в более молодом возрасте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епопулярно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с политической точки зрения, т.к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многие люди, негативно относящиеся к росту населения, относятся более негативно к многодетным семьям, чем к семьям с одним или двумя детьми.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Пособие, выплачиваемое матерям,”сидящим дома с ребенком”, а также, в случае наличия только одного кормильца</a:t>
            </a: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 в семь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0509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Выплата подобн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ых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пособи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й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может быть неэффективным, т.к. они могут служить препятствием для возвращения женщины на работу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В случае если мать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получающая подобное пособие,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о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желает вернуться на работу, она сталкнется с высок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ми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реальными предельными ставками налогов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Она будет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ынуждена сидеть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дом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Подобная политика в области трудоустройства и семьи является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целесоо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бразной, анти-фименистской, а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дет к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нерациональн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му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использовани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ю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человеческого капитала.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Тем не менее, подобны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меры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мо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гут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быть использован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ы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в отношении семей с очень мальнькими детьми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собия, выплачиваемые на основании социальных или экономических характеристик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1938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лачиваются только лицам 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высоким уровн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бразова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высокими доходами или п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рованной национальности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литические возражения против такого подхода совершенно очевидны. Он может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осприниматься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как евгенический, анти-ф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е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истский 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регрессивный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Это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почти наверняка не буд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е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87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Обеспечение доступности и выплата пособия на  оплату услуг по уходу  и дошкольному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зованию</a:t>
            </a: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  ребенка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7622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Хорошая политика потому, чт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оспринимается как политика, направленная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имулирование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рождаемости, а также на оказание поддержки работающим женщинами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 то время как супружеские пары могут не задумываться о стоимости высшего образования ребенка в далеком будущем, они наверняка подсчитают потерю дохода в ближайшие несколько лет, с которой они  столкнуться, если один из родителей, обычно мать, не  будет работать в течение продолжительного периода времени.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 подобных обстоятельствах уверенность в доступности качественных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услуг по уходу за ребенком и учреждений дошкольного воспитания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наверняка сыграет роль при принятии решений, касающихся работы и семьи.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 случае должной реализации обеспечивает хорошее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развитие ребенка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тские дошкольные учреждения и уход за ребенком: вопрос време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нимание доступности услуг по уходу за ребенком (детских дошкольных учреждений), уменьшает опасения потерять доход в связи с рождением ребенка и, следовательно, ведет к более ранней первой беремен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оздание новых или улучшение уже существующих детских учреждений, предоставляющих услуги по уходу за ребенком и его воспитанию  на территории всей страны, должно оказать быстрое влияние на уровень рождаемости среди всех групп насел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тские дошкольные учреждения и уход за ребенком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едостатк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Часто не проходит тест на простоту в связи со сложностями внедрения новых услуг. Соответственно, результат может быть медленным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емьи часто поставлены в неравные условия: эти услуги могут быть доступн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для одних и недоступ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для других в связи с местоположением, организацией работы и т.д.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Субсидирование дошкольного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спитания и  ухода за ребенко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не должно способствовать злоупотреблениям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в использовании этих услуг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нахождение ребенка 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тских дошкольных учреждениях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в течение 50 часов в неделю)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Субсидирование других услуг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13920"/>
            <a:ext cx="820728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апример, субсидирование жилья, образования, услуг в области здравоохранение, пользования общественным транспортом и спортивно-оздоровительных услуг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убсидирование правительством подобных услуг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обусловленно необходимостью. Следовательно,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х предоставление  должно основываться на потребности в таких услугах, а не выступать в качестве стимулирования рождаемости.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редоставление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универсальных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услуг, связанных с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детьми,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таких  как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образование и охран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материнского и детского здоровья,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могает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только семьям с детьми. Одновременно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в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связи с тем что подобные услуги име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ют свое прямое предназначение и обоснование, их предоставление не будет иметь значительного или быстрого влияния на рождаемость.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Появление проблемы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чень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низкой рождаем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За последние 40 лет западные, а также  передовые восточно-азиатские государства перешли от семейной системы, в которой доминировала модель “мужчины-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мильца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, к системе, где как мужчина, так и женщина заняты построением своей карьеры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Последовавший за этим конфликт между оплачиваемым трудом и рождением и воспитанием ребенка во мног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х, хотя и не во всех странах, привел к очень низким уровням рождаемости 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бщий коэффициен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рождаемости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,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тпуск и часы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11456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пример: оплачиваемый и неоплачиваемый отпуск по уходу за ребенком, отпуск по семейным обстоятельствам, гибкий график работы, возможность работать неполный рабочий день, согласование часов пребывания ребенка в школе и часов работы родител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ажная для семейной политики область, которая, однако, требует сотрудничества со стороны работодателей. Последнее может оказаться проблематичным, в особенности в тех случаях, когда компания  ведет острую конкуренцию с иностранными фирм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сли предоставление отпуска или удобного рабочего графика зависит от доброй воли работодателя, как сотрудники одной и той же фирмы, так и сотрудники разных компаний будут поставлены в значительно неравные услов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о, как работодатель, может показать хороший пример. Необходимо поощрять  конкуренцию между фирмами  за привлечение персонала путем создания для сотрудников дружественных для семьи услов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жет возникнуть чувство недовольства со стороны работников, не имеющих детей (больше работы за ту же оплат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42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плачиваемый отпус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 беременности и ро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19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казывает существенную финансовую поддержку и гарантирует возможность возврата на прежнее место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пособствует развитию ребенка, т.к. основной уход за ребенком в первые месяцы его жизни осуществляется матерью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стой и прозрачный метод поощрения возращения родителей в ряды рабочей силы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Часто создает неравноправные условия для женщин, т.к. он может быть предоставлен только некоторым матеря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т убедительного свидетельства о влиянии предоставления оплачиваемого декретного отпуска на стимулирование рождаем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литика обеспечения занят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287360"/>
            <a:ext cx="82090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срочка рождения первого ребенка тесно связана со стремлением молодых людей избежать риска, вызванного конкурентным характером рынка труда в условиях новой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сокий уровень безработицы среди молодых людей создаст широко распространенное чувство неуверенности в завтрашнем д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кращение уровня безработицы среди молодых людей, большая уверенность в гарантированности трудоустройства, более высокие доходы – все это желательно, но легче сказать, чем сдел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 опять, отсутствие сотрудничества со стороны работодателя может послужить препятствием ее реализ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разовательные комп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666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Компании, направленные на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Поощрение родителей не откладывать на долго рождение дете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Понимание механизма зачатия ребенка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Содействие пониманию «радостей семейной жизни»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Уменьшение необоснованной нервозности, относительно будущег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бразовательные компании не требуют больших расходов, но попытки властей оказать влияние на жизненные ценности населения на таком личном уровне могут вызвать политические возраж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Часто рассматриваются, как «консервативный план». Могут не получить поддержки со стороны левых сил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озражения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инансовые сооб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редства, потраченные на улучшение демографической ситуации, могут быть направлены в более продуктивные области капиталовложения,  такие как: образование, улучшение инфраструктуры, жилищное строительство, охрана здоровья или развитие промышлен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шение – за политиками. Я придерживаюсь мнения, что риски, связанные с отсутствием каких-либо шагов, направленных на преодоление крайне низких уровней рождаемости, явно перевешивают риск того, что средства могли бы быть потрачены иным образом и с большой прибылью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роки реал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Реализация любой новой политики должно приводить к долгосрочным изменениям в обществ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Любая отдельно взятая политика, описанная выше, не не меняет природы общества, и не является радикальными сдвигом, направленным на поддержку семей с детьм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акие изменения могут быть достигнуты  только путем применения комплексного подхода к реализации полити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Комплексный подход должен включать в себя решение проблем, связанных с финансовым аспектом рождения в семье детей, обеспечением доступности служб по уходу за ребенком и учреждений дошкольного воспитания, а также условиями работы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 зависимости от особенностей конкретной страны, он может также включать большие гарантии трудоустройства молодых людей, а также изменения жизненных ценностей, направленных на более раннее рождение первого ребенка.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371520"/>
            <a:ext cx="806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осточная и Центральная Европа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бщий коэффициент рождаемости з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2004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6840" y="1509840"/>
          <a:ext cx="8381880" cy="465588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  <a:gridCol w="342900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шская Респуб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сния и Герцег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г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ва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г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дав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мы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йская Фед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а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бия и Монтенегр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ба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. Югосл. Респ. Македо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зербайд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ору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96524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3280" y="228600"/>
            <a:ext cx="873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Существует ли различие между политическими мерами, требующимися для Восточной/Центральной Европы и Российской Федерации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752480"/>
            <a:ext cx="828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этих стран уже имеют опыт в осуществлении различных мер по поддержке семьи. Культурной проблемы не существу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мер, направленных на поддержку семьи и детей, были прекращены в 1990-е годы, однако возобновление оказания подобной поддержки вряд ли столкнется с существенным политическим противодействи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ой комплекс мер является наиболее оправданным с финансовой точки зрения и в то же время эффективным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определенных условиях может оказаться  весьма  актуальным предоставление семьям субсидий на приобретение жил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ецифика стран в период перестройки эконом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7622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сокий уровень безработицы и высокий уровень бедности. Экономический кризис вызвал шок, которой привел к снижению рождаем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Экономические амбиции населения возрастают в связи с переходом к рыночной экономике, но у него еще не было возможности их реализовать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хватка жилья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лодые люди склонны реагировать на специфику периода перестройки экономики путем инвестирования средств и сил в свой человеческий капитал и отсрочкой рождения первого ребенк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 отсутствии реализации основных вышеуказанных составляющих семейной политики, улучшение экономических тенденций в стране может только приостановить темпы рождаемости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чень низкая рождаемость является серьезной проблем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ласти всех стран с общим коэффициентом рождаемости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&lt; 1.5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, считают, что данный показатель в их стране слишком низок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сследования показали, что молодые люди хотели бы иметь в среднем большее количество детей, чем они имеют в реаль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чень низкая рождаемость ведет к огромным нехваткам рабочей силы при одновременном старении населения. В частности, она может привести к нехватке молодых квалифицированных кадр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, наконец, она создает отрицательное воспроизводство населения, которое может привести к быстрому сокращению населения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872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ий коэффициент рождаемо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4360" y="1413000"/>
          <a:ext cx="7772400" cy="4851360"/>
        </p:xfrm>
        <a:graphic>
          <a:graphicData uri="http://schemas.openxmlformats.org/drawingml/2006/table">
            <a:tbl>
              <a:tblPr/>
              <a:tblGrid>
                <a:gridCol w="2481120"/>
                <a:gridCol w="1322640"/>
                <a:gridCol w="2646360"/>
                <a:gridCol w="1322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стра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стран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единенные Шта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уг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я Зе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ь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ь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гапу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йван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оре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ксем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нкон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ь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Культурные разграни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3809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Групп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1: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ОКР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&lt;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еверная Евр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ападная Европа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Франко- и немецко-говорящие стран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нгло-говорящие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Групп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 2: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ОКР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 &lt;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Южная Евр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ападная Европ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емецко-говорящие страны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сточная Аз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428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ются подобные культурные разграничения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351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 целом, очень низкая рождаемость наблюдается в странах, в которых существует традиционное устойчивое убеждение, что семья и государство являются отдельными субъектами, и что семьи должны сами поддерживать своих членов без вмешательства со стороны государств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 связи с этим, страны в этих регионах не торопятся принимать универсальные меры по оказанию поддержки семья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 некоторыми исключениями, в странах с умеренно низкой рождаемостью дело обстоит по другому. В целом, их отличают новые, дружественные для семьи институциональные схемы, которые они реализуют в течение последних 20 лет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Три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сновные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составляющие семейной политики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3052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Политика стран, которые избежали крайне низих уровней рождаемости, опирается на три основные компонент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которые включаю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Меры, направленные на финансовую поддержку семей с дет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беспечение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ступности услуг по уходу за ребенком 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реждений дошкольного детского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Создание благоприятных условий работы для семей с детьм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Конкретная структура национальной политики в этой области в значительной степени отличается от страны к стране, однако все они так или иначе включают комплексные меры в каждой из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шеуказанной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областей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Три преимущества, предоставляемые данными составляющими семейной поли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02104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Данные с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ставляющи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не только обеспечивают эффективность политики в области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тимул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рождаемости,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о 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включают в себя институциональные изменения, которые положительно сказываются на: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Благополуч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отдельных семей с детьми, а также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Достижен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равенства между мужчиной и женщиной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тройное преимущество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в значительной степени повыш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т политическою приемлимость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анных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компонентов семейной политики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олитика, позволяющая получить быстрые результаты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аиболее существенного и быстрого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ффекта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удается добиться в тех случаях, когда наибольшее количество женщин (независимо от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х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возраста и количеств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уж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имеющихс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у них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детей) решают завест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Таким образом, меры, осуществляемые в рамках семейной политики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хватывающи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все категории женщин, являются  наиболее эффективным способом быстрого повышения уровня рождаемости.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апример, если выплачивать субсидии  всем женщинам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потенциально все они могут отреагировать немедл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4:46:23Z</dcterms:created>
  <dc:creator>Demography &amp; Sociology Program</dc:creator>
  <dc:description/>
  <dc:language>en-US</dc:language>
  <cp:lastModifiedBy>amordovin</cp:lastModifiedBy>
  <dcterms:modified xsi:type="dcterms:W3CDTF">2006-09-12T10:08:22Z</dcterms:modified>
  <cp:revision>172</cp:revision>
  <dc:subject/>
  <dc:title>An assessment of policies that support having children from the perspectives of equity, efficiency and efficacy </dc:title>
</cp:coreProperties>
</file>